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78F-1C84-443D-8224-A5991D5C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2AB-E8AE-4BEB-A144-B4DBDD62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64F-F719-4F96-810A-4F3136A2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14C-6475-4A56-A552-622BD606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1325-3511-45DA-B00E-5258BE30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D7E9-0D2C-4705-9C1A-D2C48F88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1C03-3D2B-4180-9C26-CA23F61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81CA-6909-4E03-8927-5FCFC5C2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AFF1-4C0B-406C-BC2D-261007F4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3A86-C8DE-4244-B47F-C89A599E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5B07-1A41-4935-A5D0-B51E285A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C9F-8D31-47DE-B753-EDFB6FCB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8D67-6400-43B9-8D16-9BD1205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9D52-FC27-474A-960D-979FE0D7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7FFE-1871-4238-8B1D-C41CDB75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F245-23FF-4847-9A1F-E56E6103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115C-84A4-4BE6-8F22-8E8B8232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62C-6E3A-42C7-B7F5-00795FFD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9A4-A3EC-4F39-98A1-6E727108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A13-2126-4E72-BB4F-EC090EEC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6F3-4546-47E8-994C-EB1E3BFB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A3F-5A45-4A60-A2FC-AABB775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5D6-0E43-42C9-8305-DA4AFAE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9F7-826A-4B34-9FE8-C09F5BDF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C092-8A24-43F2-AD3A-118FCB8F27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362F-45BA-4D76-AF6C-18C98F9F04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fe History Patt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25142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ting System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xual Sel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productive Effor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der Allo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Selection and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Sel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bitat Sel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81788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ing two or more mates, none of which is mated to other individu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one male and several females or one female and several ma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304920"/>
            <a:ext cx="19526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finition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male gains matting privileges over several fe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380880"/>
            <a:ext cx="3124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olygyn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9880" y="2819520"/>
            <a:ext cx="38862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the??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5530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emale gains control and matting rights over many 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emale is the competitive individu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66880" y="45720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lyand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8862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miscu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ulation occurs between many males and females and no pair bond is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2657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xual Sel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133720" y="3657600"/>
            <a:ext cx="64008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xual selection is selection for characters that enhance mating succes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gaining a higher chance to win mates worth the risk of individual (inclusive) fitn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time and energy spent in searching and winning a mate worth the potential to harm the individuals chance for surviv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benefits out weigh the cost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-1543320" y="3676680"/>
            <a:ext cx="41907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Questions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the Benefit? Cos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ental invest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investment of resources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crea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probability offspring will survive (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nef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while decreasing the parent's ability to produce more offspring (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8769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More offspring increases the parents reproductive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investing in the production of current offspring a 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duce the likelihood that it will be able to invest in future offsp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756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s can be the energetic demands of parenting, increased predation risk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ch sex has the greater investmen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important component of parental investment i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vestment in game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m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the sex with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 parental investment per gam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Example are eggs which have the nutrients to promote the development once fertilization occu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maller parental investment per gam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generally carries only genetic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f gamete investme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rds: eac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gg = 15-20%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females body weight. In males, millions of sperm produced each ejaculation; total outpu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 reproductive season &lt; 5%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body weight. (The difference is less pronounced, but still significant, in mammal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difference in investment in gametes has important consequences for how the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ources are inves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hence how selection might act differently in the two sex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l, females should commit their eggs for reproductio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udent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males need not be so cautious in their commitment of sper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in evolutionary terms, the reduction in fitness of a female that squanders an egg will be greater than the reduction in fitness of a male that squanders a sperm (give or take a millio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important component of parental investment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ental c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are of the zygote after fertiliz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of parental care is also frequently quite different in males and fema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’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pecies wit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the female) is "stuck" with the egg after fertilization. In many species the female also cares for the young after they hatch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0520" y="4266720"/>
            <a:ext cx="8255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s are not anatomically tied to the egg and hence are sometimes "freed" from this additional parental c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pecies whe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ultiple ma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ccur, a ma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not be cert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a females offspring we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thered by hi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nef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caring for unrelated offspring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 male c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tness by avoiding parent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doing what??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0720" y="44197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ondary sex characteris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ary sex characterist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traits that distinguish the two sexes of a species, but that are not directly part of the reproductive syste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286520" cy="2847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257800" y="5410080"/>
            <a:ext cx="885960" cy="1200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the??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800080" cy="3743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065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ex characteristics can give individuals an advantage over rivals in one of two way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Either they can be used to defeat rivals in comb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They can be used to attract members of the other sex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342900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ondary Sex Characteristic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ght colors, long tails, plumes, antlers and horns threaten the survival of the animal but they also give them an advantage in fighting other males or attracting fe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0" y="45716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5238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is the antlers on deer; the male with the best antlers defeats his rivals, and thus gains access to the females of the grou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the latter is the peacock's tail; the male with the most impressive tail will win more females than a less impressive 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 mating system includes such asp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the number of mates males and female requ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the manner in which they are acquired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The nature of the pair b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The pattern of parental care provi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2514600"/>
            <a:ext cx="594360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noga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Monogam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3276720"/>
            <a:ext cx="817884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mation of a pair between one male and one fema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most prevalent among birds and rare among mammals, except several carnivores -FOX and herbivores- Beav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752480"/>
            <a:ext cx="1857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fin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or when is it necessary for animals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nogam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 by both parents is needed for youth surviv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rds are helpless when ha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520" y="533520"/>
            <a:ext cx="266688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57400" y="4572000"/>
            <a:ext cx="49528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Humans?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153280" cy="33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ng 100 species of monogamous birds, both males and females CHEAT while each usually maintains a primary relationshi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2120" y="304920"/>
            <a:ext cx="5790960" cy="23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Dark Si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engaging in extra pair relationships, the female may increase her fitness by rearing young sired by two or more 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le increases his fitness by having his offspring produced by several fem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480" y="304920"/>
            <a:ext cx="480060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tra-pair copulatio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590920"/>
            <a:ext cx="632484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olygamy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2:34:24Z</dcterms:created>
  <dc:creator>Kurt Pfeiffer</dc:creator>
  <dc:description/>
  <dc:language>en-US</dc:language>
  <cp:lastModifiedBy>SASD</cp:lastModifiedBy>
  <dcterms:modified xsi:type="dcterms:W3CDTF">2009-01-07T17:50:42Z</dcterms:modified>
  <cp:revision>10</cp:revision>
  <dc:subject/>
  <dc:title>Life History Patterns</dc:title>
</cp:coreProperties>
</file>